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07B2-94D4-4E84-9578-70D4D5D00D7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F266-C72E-464B-8EA2-96F2EDC002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B324-2E87-4742-AB40-22156E818BB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5427-841E-4CA1-A03B-69572DF1FBC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60EF-C627-489D-897D-6B03789208B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6760-A643-423A-887E-18B0792C4DF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B0B2-A747-4EED-AD76-137FE8DE35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A3FB-C118-4109-8939-D4BFB26BAD3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4295-A3EC-47D9-A97A-6D832C88590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DFB2-DE70-4093-BA75-6E462888326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8D08-7C28-4288-8A96-4126A33FBE2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4F37-F989-4117-9D22-16756C7E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F72-51F1-4503-B5AF-72492847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553-E846-4ECA-B6F0-C3E1113E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5788-A996-4B03-B3C5-021C5EA2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5C6D-F09D-4EEC-87DA-AC656DD4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6FB7-76F1-46D5-BF16-B6CECEE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967-DD2C-4448-B8F9-BEE1565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942F-D1F5-40DC-A361-1F629817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B44-BFC4-4DF4-868A-277ED212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466A-638B-4ADA-8519-B9B7439A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9232-5051-4BDB-BCF4-CCCAD11E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332-B86E-41DA-89A7-CCC455CB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2B66-8419-4A9C-899E-B980B8C26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jpe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9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454560" y="2009880"/>
            <a:ext cx="2706480" cy="282096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50" name="" descr=""/>
            <p:cNvPicPr/>
            <p:nvPr/>
          </p:nvPicPr>
          <p:blipFill>
            <a:blip r:embed="rId2">
              <a:lum bright="70000" contrast="-70000"/>
            </a:blip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69696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3759480" y="4929120"/>
            <a:ext cx="2250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biznesow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390240" y="33415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367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8191440" y="5638680"/>
            <a:ext cx="792360" cy="62100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66280" y="6400800"/>
            <a:ext cx="56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zy Internauci lubią gdy ich się doceni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1200" y="5815080"/>
            <a:ext cx="325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*/ statystyki opublikowane przez firmę Hitwise </a:t>
            </a:r>
            <a:br>
              <a:rPr sz="1200"/>
            </a:br>
            <a:r>
              <a:rPr b="0" i="1" lang="pl-PL" sz="1200" spc="-1" strike="noStrike">
                <a:solidFill>
                  <a:srgbClr val="000000"/>
                </a:solidFill>
                <a:latin typeface="Arial"/>
              </a:rPr>
              <a:t>podczas imprezy Web2.0 Expo, San Francisco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4"/>
          <a:stretch/>
        </p:blipFill>
        <p:spPr>
          <a:xfrm>
            <a:off x="663480" y="5146560"/>
            <a:ext cx="542880" cy="324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1670040" y="5173560"/>
            <a:ext cx="611280" cy="2415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3867120" y="3951360"/>
            <a:ext cx="2061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omplikowana forma edycj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ysoki poziom merytoryczny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07440" y="2789280"/>
            <a:ext cx="1716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ża konkurencj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wnętrzna i zewnętrz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6"/>
          <a:stretch/>
        </p:blipFill>
        <p:spPr>
          <a:xfrm>
            <a:off x="2776680" y="5172120"/>
            <a:ext cx="523800" cy="6141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3864960" y="1109520"/>
            <a:ext cx="117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Arial"/>
              </a:rPr>
              <a:t>możliwy powód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8"/>
          <p:cNvSpPr/>
          <p:nvPr/>
        </p:nvSpPr>
        <p:spPr>
          <a:xfrm>
            <a:off x="711360" y="157320"/>
            <a:ext cx="710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zy użytkownik zechce edytować POI i dlaczeg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73720" y="1054080"/>
            <a:ext cx="2685960" cy="4125960"/>
          </a:xfrm>
          <a:prstGeom prst="wedgeRectCallout">
            <a:avLst>
              <a:gd name="adj1" fmla="val 54490"/>
              <a:gd name="adj2" fmla="val 6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kipedyści pracują dla idei. 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soki procent odwiedzających YouTube oraz Flikr robi to dla zabawy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zyżby Internaucie zależało na angażowaniu się (wikipedia)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sensowne przedsięwzięcia?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miana encyklopedyczności na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raktyczność i aktualność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w POI (prostsza informacja) oraz wsparcie  zaangażowania systemem punktacji, rywalizacją i gratyfikacją rzeczową i finansową – ma przyczynić się do wzrostu liczby edytujących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7"/>
          <a:stretch/>
        </p:blipFill>
        <p:spPr>
          <a:xfrm>
            <a:off x="3927600" y="1501920"/>
            <a:ext cx="393480" cy="234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947400" y="1785960"/>
            <a:ext cx="116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ymagając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róbka wstęp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8"/>
          <a:stretch/>
        </p:blipFill>
        <p:spPr>
          <a:xfrm>
            <a:off x="3892680" y="2557440"/>
            <a:ext cx="385560" cy="152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9"/>
          <a:stretch/>
        </p:blipFill>
        <p:spPr>
          <a:xfrm>
            <a:off x="3919680" y="3470400"/>
            <a:ext cx="361800" cy="42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9" name=""/>
          <p:cNvGraphicFramePr/>
          <p:nvPr/>
        </p:nvGraphicFramePr>
        <p:xfrm>
          <a:off x="192240" y="893880"/>
          <a:ext cx="3406680" cy="420660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92240" y="893880"/>
                    <a:ext cx="3406680" cy="42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249120" y="811080"/>
            <a:ext cx="3278160" cy="662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% edytujących na 100%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odwiedzających witrynę użytkownikó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1278000" y="136440"/>
            <a:ext cx="60991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lko jedna 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standardowa strona portal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025640" y="519120"/>
            <a:ext cx="6813360" cy="5837400"/>
            <a:chOff x="1025640" y="519120"/>
            <a:chExt cx="6813360" cy="583740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1025640" y="519120"/>
              <a:ext cx="6813360" cy="583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1264680" y="783000"/>
              <a:ext cx="6282720" cy="510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1601280" y="11476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pisujemy w polu to czego szukamy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39" descr="znajdź / publikuj   "/>
          <p:cNvPicPr/>
          <p:nvPr/>
        </p:nvPicPr>
        <p:blipFill>
          <a:blip r:embed="rId2"/>
          <a:stretch/>
        </p:blipFill>
        <p:spPr>
          <a:xfrm>
            <a:off x="5014800" y="1601640"/>
            <a:ext cx="2433600" cy="492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3"/>
          <a:stretch/>
        </p:blipFill>
        <p:spPr>
          <a:xfrm>
            <a:off x="6616800" y="2863800"/>
            <a:ext cx="268200" cy="44784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1290600" y="804960"/>
            <a:ext cx="6408720" cy="5145120"/>
            <a:chOff x="1290600" y="804960"/>
            <a:chExt cx="6408720" cy="5145120"/>
          </a:xfrm>
        </p:grpSpPr>
        <p:pic>
          <p:nvPicPr>
            <p:cNvPr id="401" name="" descr=""/>
            <p:cNvPicPr/>
            <p:nvPr/>
          </p:nvPicPr>
          <p:blipFill>
            <a:blip r:embed="rId4"/>
            <a:stretch/>
          </p:blipFill>
          <p:spPr>
            <a:xfrm>
              <a:off x="1290600" y="804960"/>
              <a:ext cx="6408720" cy="514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1839960" y="1698480"/>
              <a:ext cx="3085920" cy="24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rze Bałtyckie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648520" y="1163520"/>
            <a:ext cx="343584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 znajduje się nazwa Park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2288880" y="1322280"/>
            <a:ext cx="331560" cy="303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852560" y="1700280"/>
            <a:ext cx="308628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skie Ok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855800" y="1698480"/>
            <a:ext cx="308592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Invidia GForce 5200 - driver X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854360" y="1698480"/>
            <a:ext cx="308592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k zrobić naleśniki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22320" y="1690560"/>
            <a:ext cx="308628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Koncert Pink Floyd w Pols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835280" y="1698480"/>
            <a:ext cx="308592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piderman, film sensacyjn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854360" y="1692360"/>
            <a:ext cx="308592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l. Roosevelta, Poznań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825560" y="1695600"/>
            <a:ext cx="308628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5 386 87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16200" y="1697040"/>
            <a:ext cx="308592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Zimą nad Bałtyk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8800" y="1700280"/>
            <a:ext cx="3086280" cy="243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ze Bałtycki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426360" y="4951440"/>
            <a:ext cx="2646360" cy="7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0" tIns="72000" bIns="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 to nie Encyklopedi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praktyczn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ujęcie Informacj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3"/>
          <p:cNvSpPr/>
          <p:nvPr/>
        </p:nvSpPr>
        <p:spPr>
          <a:xfrm rot="21153600">
            <a:off x="1512360" y="2609640"/>
            <a:ext cx="5816160" cy="14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 Nazwy = cegiełka portalu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- gazetk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 temaci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417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5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2998440" y="6359400"/>
            <a:ext cx="597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Prosta budowa ale nowy temat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Park Nazw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path" presetID="56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1823 -0.04838 L -0.04791 -0.13472 E">
                                      <p:cBhvr>
                                        <p:cTn id="231" dur="800" fill="hold"/>
                                        <p:tgtEl>
                                          <p:spTgt spid="3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800"/>
                            </p:stCondLst>
                            <p:childTnLst>
                              <p:par>
                                <p:cTn id="233" nodeType="after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7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60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73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1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9600"/>
                            </p:stCondLst>
                            <p:childTnLst>
                              <p:par>
                                <p:cTn id="2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3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3600"/>
                            </p:stCondLst>
                            <p:childTnLst>
                              <p:par>
                                <p:cTn id="266" nodeType="afterEffect" fill="hold" presetClass="exit" presetID="10">
                                  <p:stCondLst>
                                    <p:cond delay="1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7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7600"/>
                            </p:stCondLst>
                            <p:childTnLst>
                              <p:par>
                                <p:cTn id="274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6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9500"/>
                            </p:stCondLst>
                            <p:childTnLst>
                              <p:par>
                                <p:cTn id="278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1300"/>
                            </p:stCondLst>
                            <p:childTnLst>
                              <p:par>
                                <p:cTn id="28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3300"/>
                            </p:stCondLst>
                            <p:childTnLst>
                              <p:par>
                                <p:cTn id="286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100"/>
                            </p:stCondLst>
                            <p:childTnLst>
                              <p:par>
                                <p:cTn id="290" nodeType="afterEffect" fill="hold" presetClass="exit" presetID="10">
                                  <p:stCondLst>
                                    <p:cond delay="1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1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690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1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9100"/>
                            </p:stCondLst>
                            <p:childTnLst>
                              <p:par>
                                <p:cTn id="298" nodeType="afterEffect" fill="hold" presetClass="exit" presetID="10">
                                  <p:stCondLst>
                                    <p:cond delay="1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31000"/>
                            </p:stCondLst>
                            <p:childTnLst>
                              <p:par>
                                <p:cTn id="302" nodeType="afterEffect" fill="hold" presetClass="entr" presetID="12" presetSubtype="2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4" dur="7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3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316600" y="6377040"/>
            <a:ext cx="681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Zajmowanie nisz jest dla POI 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ni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d4d4d"/>
                </a:solidFill>
                <a:latin typeface="Tahoma"/>
              </a:rPr>
              <a:t>tylko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</a:rPr>
              <a:t> kwestią zarobk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65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064360" y="5587920"/>
            <a:ext cx="792360" cy="620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0240" y="196920"/>
            <a:ext cx="8620920" cy="55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Jaką niszę wypełnia POI?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az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wiedzy praktycznej i aktualnej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rudno opublikować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nformację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…tak aby inny mógł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 razu ją znaleźć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platform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rabian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łego miejsc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Internau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stałego grona odwiedzających - wielu chc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yć celebryt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jednolitej platformy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piniotwórczej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produkty, usługi, marki, firmy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zasoby Internetu i dostęp do nich są nieuporządkowane,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(koncepcja wyłuskiwania z wora Internetu przez wyszukiwarki jest przestarzała)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sieć się skomercjalizowała i skoncentrowała – giga portale – pojedynczy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użytkownik „nic” nie ma do powiedzenia.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nadchodzące Widmo: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Niech człowiek zajmuje się i bawi się w WR a firmy w R!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krajowego i globalnego narzędzia wpływu n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ekologi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Internet choć globalny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nie jes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używany jako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jedno narzędz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do poprawy byt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- brak krajowej i globalne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latformy B2B, B2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943280" y="6364440"/>
            <a:ext cx="72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4d4d4d"/>
                </a:solidFill>
                <a:latin typeface="Tahoma"/>
              </a:rPr>
              <a:t>POI = </a:t>
            </a:r>
            <a:r>
              <a:rPr b="0" lang="en-US" sz="2000" spc="-1" strike="noStrike">
                <a:solidFill>
                  <a:srgbClr val="4d4d4d"/>
                </a:solidFill>
                <a:latin typeface="Tahoma"/>
                <a:ea typeface="Tahoma"/>
              </a:rPr>
              <a:t>~</a:t>
            </a:r>
            <a:r>
              <a:rPr b="0" lang="pl-PL" sz="2000" spc="-1" strike="noStrike">
                <a:solidFill>
                  <a:srgbClr val="4d4d4d"/>
                </a:solidFill>
                <a:latin typeface="Tahoma"/>
              </a:rPr>
              <a:t>Wikipedia + biznes + jeszcze trochę interaktywności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86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7912080" y="1041480"/>
            <a:ext cx="792360" cy="620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65040" y="63360"/>
            <a:ext cx="8778960" cy="64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marL="380880" indent="-3808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le „kół” posiada system POI?</a:t>
            </a:r>
            <a:br>
              <a:rPr sz="2800"/>
            </a:br>
            <a:br>
              <a:rPr sz="14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5 elementów podparcia systemu POI: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formacja praktyczna i aktualn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szybkie znajdywanie i publikowa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żytkownik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komunikacja, współpraca, zarabianie,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rządzanie portalem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iznes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usługi i funkcje B2B, B2C, opiniotwórstwo prod.,usł. i firm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Funkcje społeczne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, interakcja WR z R i statystyki użytkowe, Centrala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a strategiczna </a:t>
            </a:r>
            <a:r>
              <a:rPr b="0" i="1" lang="pl-PL" sz="2000" spc="-1" strike="noStrike">
                <a:solidFill>
                  <a:srgbClr val="000000"/>
                </a:solidFill>
                <a:latin typeface="Arial"/>
              </a:rPr>
              <a:t>(w przygotowaniu)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– zarówno gracz jak i opiekun PN mogą się wspierać, choć każdy ma odrębny cel.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ortal jako całość jest e-usługą o walorach: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formacyjno-opiniotwórczo-edukacyjno-zarobkowo-kontaktowych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2" presetSubtype="4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633240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106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8064360" y="5511960"/>
            <a:ext cx="792360" cy="6206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3040" y="65160"/>
            <a:ext cx="182412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ki a PO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080" y="974880"/>
            <a:ext cx="10201320" cy="51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 PO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ncyklopedia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zbiór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-gazetek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 temacie,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encyklopedyczna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f.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aktyczna i aktual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rony tematów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spólne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trona tematyczna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 opieku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k reklamy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eklam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graficzna, linki sponsorow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rak usług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dla biznesu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sługi dla biznesu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systemów oceny, punktacj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ena i punktacj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zarabiania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rabiani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brak rozrywki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funkcje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rozrywkowe, gra, konkursy</a:t>
            </a:r>
            <a:br>
              <a:rPr sz="2000"/>
            </a:b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kilka skórek graficznych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ysiące skórek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 dziesiątki interfejsó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budowa kierunkow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kierunku rozbudowy, uniwersaln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brak działalności biznesowej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działal. biznesowa, generowanie zysku</a:t>
            </a:r>
            <a:br>
              <a:rPr sz="1800"/>
            </a:b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niekomercyjna działalność           =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niekomercyjna działalność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4d4d4d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828360" y="-681120"/>
            <a:ext cx="450720" cy="1796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360" y="1131840"/>
            <a:ext cx="661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128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16000" y="152280"/>
            <a:ext cx="792000" cy="6210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591480" y="16344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t Portalu E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 skrócie o modelu biznesowy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908000" y="6437160"/>
            <a:ext cx="757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ieg zamknięty to jak kręcące się koło – to działa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71640" y="2571840"/>
            <a:ext cx="2089080" cy="631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żytkowni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509580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kip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39" idx="2"/>
            <a:endCxn id="140" idx="0"/>
          </p:cNvCxnSpPr>
          <p:nvPr/>
        </p:nvCxnSpPr>
        <p:spPr>
          <a:xfrm>
            <a:off x="2015640" y="3209400"/>
            <a:ext cx="1080" cy="1667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1" idx="0"/>
            <a:endCxn id="139" idx="2"/>
          </p:cNvCxnSpPr>
          <p:nvPr/>
        </p:nvCxnSpPr>
        <p:spPr>
          <a:xfrm flipH="1" flipV="1">
            <a:off x="2015280" y="3209040"/>
            <a:ext cx="3925080" cy="188676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1116000" y="37242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ziała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78160" y="3781440"/>
            <a:ext cx="93816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08360" y="5084640"/>
            <a:ext cx="100800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6"/>
          <p:cNvSpPr/>
          <p:nvPr/>
        </p:nvSpPr>
        <p:spPr>
          <a:xfrm>
            <a:off x="1500840" y="741240"/>
            <a:ext cx="35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Schemat działania Wikiped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07040" y="1413000"/>
            <a:ext cx="2857680" cy="163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ikipedyści działają dla idei: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„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budowy bazy wiedzy”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st to główny motor motywacyjny.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151" name="" descr=""/>
            <p:cNvPicPr/>
            <p:nvPr/>
          </p:nvPicPr>
          <p:blipFill>
            <a:blip r:embed="rId4"/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95360" y="1117440"/>
            <a:ext cx="661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165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216000" y="152280"/>
            <a:ext cx="792000" cy="6210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6"/>
          <p:cNvSpPr/>
          <p:nvPr/>
        </p:nvSpPr>
        <p:spPr>
          <a:xfrm>
            <a:off x="591840" y="163440"/>
            <a:ext cx="71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chemat Portalu E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 skrócie o modelu bizesowy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908000" y="6437160"/>
            <a:ext cx="757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ieg zamknięty to jak kręcące się koło – kręci się szybcie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1640" y="2571840"/>
            <a:ext cx="2089080" cy="631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żytkowni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6"/>
          <p:cNvSpPr/>
          <p:nvPr/>
        </p:nvSpPr>
        <p:spPr>
          <a:xfrm>
            <a:off x="1038240" y="770040"/>
            <a:ext cx="668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ikipedii”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orzucamy możliwość zarob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07040" y="1413000"/>
            <a:ext cx="2857680" cy="2062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 jest w POI równie ważna: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praktyczna i aktualna informacja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mądry biznes i reklama”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„wspieranie dorobku ludzkości”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robek angażuje wielokrotn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wydajność zwiększo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iczba użytkowników zwiększo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"/>
          <p:cNvCxnSpPr/>
          <p:nvPr/>
        </p:nvCxnSpPr>
        <p:spPr>
          <a:xfrm>
            <a:off x="2017440" y="3197160"/>
            <a:ext cx="1080" cy="1667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5" idx="2"/>
          </p:cNvCxnSpPr>
          <p:nvPr/>
        </p:nvCxnSpPr>
        <p:spPr>
          <a:xfrm flipH="1">
            <a:off x="2004120" y="3209760"/>
            <a:ext cx="11880" cy="1680480"/>
          </a:xfrm>
          <a:prstGeom prst="straightConnector1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81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8680" y="5084640"/>
            <a:ext cx="100800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16000" y="37242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ziała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4440" y="37386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zlecone działan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endCxn id="175" idx="2"/>
          </p:cNvCxnSpPr>
          <p:nvPr/>
        </p:nvCxnSpPr>
        <p:spPr>
          <a:xfrm flipH="1" flipV="1">
            <a:off x="2015280" y="3209040"/>
            <a:ext cx="3925080" cy="188676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grpSp>
        <p:nvGrpSpPr>
          <p:cNvPr id="186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278160" y="3781440"/>
            <a:ext cx="93816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43080" y="3560760"/>
            <a:ext cx="1584360" cy="996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zapł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pracę i klikanie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03640" y="509580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kiped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95720" y="508644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a PO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400" y="486576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ZAROBE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68680" y="4979880"/>
            <a:ext cx="1008000" cy="78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dziej 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50" autoRev="1" fill="hold"/>
                                        <p:tgtEl>
                                          <p:spTgt spid="1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4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1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800"/>
                            </p:stCondLst>
                            <p:childTnLst>
                              <p:par>
                                <p:cTn id="42" nodeType="afterEffect" fill="hold" presetClass="entr" presetID="12" presetSubtype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100"/>
                            </p:stCondLst>
                            <p:childTnLst>
                              <p:par>
                                <p:cTn id="46" nodeType="after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3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1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40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1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2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360" y="1117440"/>
            <a:ext cx="661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209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216000" y="152280"/>
            <a:ext cx="792000" cy="62100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591840" y="163440"/>
            <a:ext cx="71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chemat Portalu E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 skrócie o modelu bizesowy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10080" y="6411960"/>
            <a:ext cx="757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ieg zamknięty – kręci jeszcze szybciej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2571840"/>
            <a:ext cx="2089080" cy="631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żytkowni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8160" y="3781440"/>
            <a:ext cx="93816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6"/>
          <p:cNvSpPr/>
          <p:nvPr/>
        </p:nvSpPr>
        <p:spPr>
          <a:xfrm>
            <a:off x="1038240" y="770040"/>
            <a:ext cx="66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Wikipedii”  - dorzucamy możliwość zarob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przydzielamy użytkownikowi miejs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07040" y="1413000"/>
            <a:ext cx="2857680" cy="291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iejsce pozwala użytkownikowi zidentyfikować się z portale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naszej-klasie.pl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jest to </a:t>
            </a:r>
            <a:r>
              <a:rPr b="0" lang="pl-PL" sz="1400" spc="-1" strike="noStrike" u="sng">
                <a:solidFill>
                  <a:srgbClr val="000000"/>
                </a:solidFill>
                <a:uFillTx/>
                <a:latin typeface="Arial"/>
              </a:rPr>
              <a:t>klas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ark Nazwy to osobiste miejsce -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może być zarządzany wspólni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yróżnia użytkownik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zapewnia mu odbiorcó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wzmacnia jego zainteresowani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hobbystyczne, zawodowe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/>
          <p:nvPr/>
        </p:nvCxnSpPr>
        <p:spPr>
          <a:xfrm>
            <a:off x="2017440" y="3197160"/>
            <a:ext cx="1080" cy="1667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/>
          <p:nvPr/>
        </p:nvCxnSpPr>
        <p:spPr>
          <a:xfrm flipH="1">
            <a:off x="2018520" y="3209760"/>
            <a:ext cx="11880" cy="1680480"/>
          </a:xfrm>
          <a:prstGeom prst="straightConnector1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26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68680" y="5084640"/>
            <a:ext cx="100800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16000" y="37242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ziała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/>
          <p:nvPr/>
        </p:nvCxnSpPr>
        <p:spPr>
          <a:xfrm flipH="1">
            <a:off x="2005920" y="3240000"/>
            <a:ext cx="11880" cy="1680480"/>
          </a:xfrm>
          <a:prstGeom prst="straightConnector1">
            <a:avLst/>
          </a:prstGeom>
          <a:ln w="228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144440" y="37386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zlecone działan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endCxn id="219" idx="2"/>
          </p:cNvCxnSpPr>
          <p:nvPr/>
        </p:nvCxnSpPr>
        <p:spPr>
          <a:xfrm flipH="1" flipV="1">
            <a:off x="2015280" y="3209040"/>
            <a:ext cx="3925080" cy="188676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grpSp>
        <p:nvGrpSpPr>
          <p:cNvPr id="233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059280" y="3571920"/>
            <a:ext cx="1584000" cy="996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zapł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pracę i klikanie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95720" y="508644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a PO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400" y="48625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+ ZAROBE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2600" y="4856040"/>
            <a:ext cx="287784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snego miejsc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ark Nazwy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(pikoBizn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zarobek, + widoczność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wyróżnienie, + miejsce w I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423960" y="5364000"/>
            <a:ext cx="1584360" cy="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68680" y="4979880"/>
            <a:ext cx="1008000" cy="783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rdziej 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10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600"/>
                            </p:stCondLst>
                            <p:childTnLst>
                              <p:par>
                                <p:cTn id="87" nodeType="after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97" nodeType="afterEffect" fill="hold" presetClass="entr" presetID="1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360" y="1117440"/>
            <a:ext cx="661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254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6000" y="152280"/>
            <a:ext cx="792000" cy="6210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6"/>
          <p:cNvSpPr/>
          <p:nvPr/>
        </p:nvSpPr>
        <p:spPr>
          <a:xfrm>
            <a:off x="591840" y="163440"/>
            <a:ext cx="71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chemat Portalu E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 skrócie o modelu bizesowy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908000" y="6437160"/>
            <a:ext cx="757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ieg zamknięty to jak kręcące się koło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2571840"/>
            <a:ext cx="2089080" cy="631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żytkowni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78160" y="3781440"/>
            <a:ext cx="93816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1038240" y="770040"/>
            <a:ext cx="6837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 Wikipedii”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dorzucamy możliwość zarobku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pl-PL" sz="1400" spc="-1" strike="noStrike">
                <a:solidFill>
                  <a:srgbClr val="800000"/>
                </a:solidFill>
                <a:latin typeface="Arial"/>
              </a:rPr>
              <a:t>- przydzielamy użytkownikowi miejs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1" lang="pl-PL" sz="1800" spc="-1" strike="noStrike">
                <a:solidFill>
                  <a:srgbClr val="800000"/>
                </a:solidFill>
                <a:latin typeface="Arial"/>
              </a:rPr>
              <a:t>- dodajemy żródło dochodu POI</a:t>
            </a:r>
            <a:r>
              <a:rPr b="0" lang="pl-PL" sz="1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pl-P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pl-PL" sz="1800" spc="-1" strike="noStrike">
                <a:solidFill>
                  <a:srgbClr val="800000"/>
                </a:solidFill>
                <a:latin typeface="Arial"/>
              </a:rPr>
              <a:t>i wprowadzamy usługi dla biznes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035840" y="1554120"/>
            <a:ext cx="2108160" cy="419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Źródło dochodu stabilizuje działalność portalu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 POI wyróżniamy ok.19 źródeł dochodu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* niektóre są zupełnie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nowe:</a:t>
            </a:r>
            <a:br>
              <a:rPr sz="1400"/>
            </a:b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handel Nazwam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handel Parkam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sponsorowane son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ndywidualne usługi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opiekuna Parku dla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 biznesu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linki i artyk. sponsorow.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reklama kontekst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- i in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/>
          <p:nvPr/>
        </p:nvCxnSpPr>
        <p:spPr>
          <a:xfrm>
            <a:off x="2017440" y="3197160"/>
            <a:ext cx="1080" cy="1667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/>
          <p:nvPr/>
        </p:nvCxnSpPr>
        <p:spPr>
          <a:xfrm flipH="1">
            <a:off x="2018520" y="3209760"/>
            <a:ext cx="11880" cy="1680480"/>
          </a:xfrm>
          <a:prstGeom prst="straightConnector1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72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23960" y="5364000"/>
            <a:ext cx="1584360" cy="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568680" y="5084640"/>
            <a:ext cx="100800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6000" y="37242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ziała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/>
          <p:nvPr/>
        </p:nvCxnSpPr>
        <p:spPr>
          <a:xfrm flipH="1">
            <a:off x="2005920" y="3240000"/>
            <a:ext cx="11880" cy="1680480"/>
          </a:xfrm>
          <a:prstGeom prst="straightConnector1">
            <a:avLst/>
          </a:prstGeom>
          <a:ln w="228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1144440" y="37386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zlecone działan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"/>
          <p:cNvCxnSpPr>
            <a:endCxn id="264" idx="2"/>
          </p:cNvCxnSpPr>
          <p:nvPr/>
        </p:nvCxnSpPr>
        <p:spPr>
          <a:xfrm flipH="1" flipV="1">
            <a:off x="2015280" y="3209040"/>
            <a:ext cx="3925080" cy="188676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grpSp>
        <p:nvGrpSpPr>
          <p:cNvPr id="280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snego miejsc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ark Nazwy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(pikoBizn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zarobek, + widoczność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wyróżnienie, + miejsce w I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3571920"/>
            <a:ext cx="1584000" cy="996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zapł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pracę i klikanie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95720" y="508644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a PO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861080" y="2716200"/>
            <a:ext cx="2089080" cy="387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klama i Biz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059280" y="2781360"/>
            <a:ext cx="1800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3059280" y="3068640"/>
            <a:ext cx="1800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64000" y="2568600"/>
            <a:ext cx="86364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kl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19640" y="2928960"/>
            <a:ext cx="122364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owa relacj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2000" y="3141720"/>
            <a:ext cx="0" cy="1942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257800" y="3816360"/>
            <a:ext cx="149220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płata / usług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62400" y="618984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 flipV="1">
            <a:off x="5162400" y="5969160"/>
            <a:ext cx="64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621040" y="5992920"/>
            <a:ext cx="969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westycj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26">
                                  <p:stCondLst>
                                    <p:cond delay="1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0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3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3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4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3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3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4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4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800"/>
                            </p:stCondLst>
                            <p:childTnLst>
                              <p:par>
                                <p:cTn id="125" nodeType="after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7800"/>
                            </p:stCondLst>
                            <p:childTnLst>
                              <p:par>
                                <p:cTn id="138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9800"/>
                            </p:stCondLst>
                            <p:childTnLst>
                              <p:par>
                                <p:cTn id="148" nodeType="after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5148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2"/>
          <p:cNvSpPr/>
          <p:nvPr/>
        </p:nvSpPr>
        <p:spPr>
          <a:xfrm>
            <a:off x="0" y="6318360"/>
            <a:ext cx="9144000" cy="554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              </a:t>
            </a:r>
            <a:r>
              <a:rPr b="1" lang="pl-PL" sz="1000" spc="-1" strike="noStrike">
                <a:solidFill>
                  <a:srgbClr val="ffffff"/>
                </a:solidFill>
                <a:latin typeface="Tahoma"/>
              </a:rPr>
              <a:t>.info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Arial"/>
              </a:rPr>
              <a:t>SIP Sp.k.</a:t>
            </a: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pl-PL" sz="1000" spc="-1" strike="noStrike">
                <a:solidFill>
                  <a:srgbClr val="4d4d4d"/>
                </a:solidFill>
                <a:latin typeface="Tahoma"/>
              </a:rPr>
              <a:t>Stowarzyszenie POI</a:t>
            </a:r>
            <a:br>
              <a:rPr sz="1000"/>
            </a:br>
            <a:br>
              <a:rPr sz="1000"/>
            </a:b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90240" y="378612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88920" y="6351480"/>
            <a:ext cx="557280" cy="1256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9385200" y="-698400"/>
            <a:ext cx="451080" cy="17928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242720" y="-698400"/>
            <a:ext cx="450720" cy="179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96680" y="-696960"/>
            <a:ext cx="450720" cy="17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828360" y="-695160"/>
            <a:ext cx="450720" cy="1792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360" y="1117440"/>
            <a:ext cx="661680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128320" y="-695160"/>
            <a:ext cx="451080" cy="17928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8234280" y="330120"/>
            <a:ext cx="758880" cy="63720"/>
            <a:chOff x="8234280" y="330120"/>
            <a:chExt cx="758880" cy="63720"/>
          </a:xfrm>
        </p:grpSpPr>
        <p:sp>
          <p:nvSpPr>
            <p:cNvPr id="308" name=""/>
            <p:cNvSpPr/>
            <p:nvPr/>
          </p:nvSpPr>
          <p:spPr>
            <a:xfrm>
              <a:off x="8234280" y="330120"/>
              <a:ext cx="155880" cy="6264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30560" y="330120"/>
              <a:ext cx="155880" cy="62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687880" y="330480"/>
              <a:ext cx="155880" cy="626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87280" y="331200"/>
              <a:ext cx="155880" cy="62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37280" y="331200"/>
              <a:ext cx="155880" cy="6264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6640" bIns="2664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16000" y="152280"/>
            <a:ext cx="792000" cy="62100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4"/>
          <p:cNvSpPr/>
          <p:nvPr/>
        </p:nvSpPr>
        <p:spPr>
          <a:xfrm>
            <a:off x="0" y="-1254240"/>
            <a:ext cx="9144000" cy="733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591840" y="163440"/>
            <a:ext cx="71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chemat Portalu EA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(w skrócie o modelu bizesowy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908000" y="6437160"/>
            <a:ext cx="757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Obieg zamknięty to jak kręcące się koło -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2571840"/>
            <a:ext cx="2089080" cy="6310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żytkownic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l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ólnie zarządzanych kart Wikiped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a widocznoś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umiarkowane wyróżnieni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78160" y="3781440"/>
            <a:ext cx="93816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71640" y="692280"/>
            <a:ext cx="2808360" cy="0"/>
          </a:xfrm>
          <a:prstGeom prst="line">
            <a:avLst/>
          </a:prstGeom>
          <a:ln w="64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2" name=""/>
          <p:cNvCxnSpPr/>
          <p:nvPr/>
        </p:nvCxnSpPr>
        <p:spPr>
          <a:xfrm>
            <a:off x="2017440" y="3197160"/>
            <a:ext cx="1080" cy="1667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"/>
          <p:cNvCxnSpPr/>
          <p:nvPr/>
        </p:nvCxnSpPr>
        <p:spPr>
          <a:xfrm flipH="1">
            <a:off x="2018520" y="3209760"/>
            <a:ext cx="11880" cy="1680480"/>
          </a:xfrm>
          <a:prstGeom prst="straightConnector1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24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419640" y="5373720"/>
            <a:ext cx="158400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23960" y="5364000"/>
            <a:ext cx="1584360" cy="0"/>
          </a:xfrm>
          <a:prstGeom prst="line">
            <a:avLst/>
          </a:prstGeom>
          <a:ln w="228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568680" y="5084640"/>
            <a:ext cx="100800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ktywn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zbudow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16000" y="37242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ziałani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/>
          <p:nvPr/>
        </p:nvCxnSpPr>
        <p:spPr>
          <a:xfrm flipH="1">
            <a:off x="2005920" y="3240000"/>
            <a:ext cx="11880" cy="1680480"/>
          </a:xfrm>
          <a:prstGeom prst="straightConnector1">
            <a:avLst/>
          </a:prstGeom>
          <a:ln w="228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1144440" y="3738600"/>
            <a:ext cx="172728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browol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zlecone działani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"/>
          <p:cNvCxnSpPr>
            <a:endCxn id="318" idx="2"/>
          </p:cNvCxnSpPr>
          <p:nvPr/>
        </p:nvCxnSpPr>
        <p:spPr>
          <a:xfrm flipH="1" flipV="1">
            <a:off x="2015280" y="3209040"/>
            <a:ext cx="3925080" cy="1886760"/>
          </a:xfrm>
          <a:prstGeom prst="straightConnector1">
            <a:avLst/>
          </a:prstGeom>
          <a:ln w="57240">
            <a:solidFill>
              <a:srgbClr val="00cc66"/>
            </a:solidFill>
            <a:miter/>
            <a:tailEnd len="med" type="triangle" w="med"/>
          </a:ln>
        </p:spPr>
      </p:cxnSp>
      <p:grpSp>
        <p:nvGrpSpPr>
          <p:cNvPr id="332" name=""/>
          <p:cNvGrpSpPr/>
          <p:nvPr/>
        </p:nvGrpSpPr>
        <p:grpSpPr>
          <a:xfrm>
            <a:off x="7791480" y="5672160"/>
            <a:ext cx="1170000" cy="563400"/>
            <a:chOff x="7791480" y="5672160"/>
            <a:chExt cx="1170000" cy="563400"/>
          </a:xfrm>
        </p:grpSpPr>
        <p:pic>
          <p:nvPicPr>
            <p:cNvPr id="333" name="" descr=""/>
            <p:cNvPicPr/>
            <p:nvPr/>
          </p:nvPicPr>
          <p:blipFill>
            <a:blip r:embed="rId4"/>
            <a:stretch/>
          </p:blipFill>
          <p:spPr>
            <a:xfrm>
              <a:off x="7791480" y="5889600"/>
              <a:ext cx="1170000" cy="3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8356680" y="5672160"/>
              <a:ext cx="579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000" rIns="72000" tIns="72000" bIns="72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7.X.09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611280" y="4876920"/>
            <a:ext cx="2808360" cy="14266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Opieka i rozbudowa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własnego miejsca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ark Nazwy </a:t>
            </a:r>
            <a:r>
              <a:rPr b="1" i="1" lang="pl-PL" sz="1400" spc="-1" strike="noStrike">
                <a:solidFill>
                  <a:srgbClr val="000000"/>
                </a:solidFill>
                <a:latin typeface="Arial"/>
              </a:rPr>
              <a:t>(pikoBizn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rzyści: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zarobek, + widoczność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wyróżnienie, + miejsce w I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059280" y="3571920"/>
            <a:ext cx="1584000" cy="996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 zapłata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 pracę i klikanie</a:t>
            </a:r>
            <a:br>
              <a:rPr sz="1400"/>
            </a:b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995720" y="5086440"/>
            <a:ext cx="1873440" cy="87444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łaściciel portal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a PO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61080" y="2716200"/>
            <a:ext cx="2089080" cy="3877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klama i Biz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059280" y="2781360"/>
            <a:ext cx="1800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3059280" y="3068640"/>
            <a:ext cx="18000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64000" y="2568600"/>
            <a:ext cx="86364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kl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19640" y="2928960"/>
            <a:ext cx="122364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owa relacj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012000" y="3141720"/>
            <a:ext cx="0" cy="1942920"/>
          </a:xfrm>
          <a:prstGeom prst="line">
            <a:avLst/>
          </a:prstGeom>
          <a:ln w="63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3816360"/>
            <a:ext cx="1492200" cy="35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płata / usług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162400" y="6189840"/>
            <a:ext cx="45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5162400" y="5969160"/>
            <a:ext cx="648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621040" y="5992920"/>
            <a:ext cx="96912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westycj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"/>
          <p:cNvCxnSpPr/>
          <p:nvPr/>
        </p:nvCxnSpPr>
        <p:spPr>
          <a:xfrm flipH="1" rot="16200000">
            <a:off x="3888720" y="697680"/>
            <a:ext cx="144720" cy="3890160"/>
          </a:xfrm>
          <a:prstGeom prst="bentConnector3">
            <a:avLst>
              <a:gd name="adj1" fmla="val -43067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2411280" y="1784520"/>
            <a:ext cx="2808360" cy="570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kuteczniejsza i „lubiana” reklam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474920" y="1483920"/>
            <a:ext cx="0" cy="10810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74920" y="1484280"/>
            <a:ext cx="48974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372360" y="1484280"/>
            <a:ext cx="0" cy="1224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988720" y="1268280"/>
            <a:ext cx="1805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owa wiarygodnośc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88000" y="658800"/>
            <a:ext cx="2448000" cy="199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Portal Ea dzieli się dochodem z użytkownikami i napędza tym tworzenie ukierunkowanej treści.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Dobra treść zwiększa oglądalność portalu co przyciąga reklamodawców</a:t>
            </a:r>
            <a:br>
              <a:rPr sz="1400"/>
            </a:b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i biznes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93080" y="3213000"/>
            <a:ext cx="1908000" cy="241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 Ea występują obiegi zamknięte dla pracy użytkownika i oglądanej reklamy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datkowo występuje też obieg budowy wiarygodności dla biznesu i zacieśniania współprac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 użytkownikiem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7" dur="7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7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7700"/>
                            </p:stCondLst>
                            <p:childTnLst>
                              <p:par>
                                <p:cTn id="172" nodeType="after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200"/>
                            </p:stCondLst>
                            <p:childTnLst>
                              <p:par>
                                <p:cTn id="179" nodeType="afterEffect" fill="hold" presetClass="entr" presetID="1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1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20:51:03Z</dcterms:created>
  <dc:creator>vxd</dc:creator>
  <dc:description/>
  <dc:language>en-US</dc:language>
  <cp:lastModifiedBy>ea</cp:lastModifiedBy>
  <dcterms:modified xsi:type="dcterms:W3CDTF">2010-04-09T10:44:26Z</dcterms:modified>
  <cp:revision>654</cp:revision>
  <dc:subject/>
  <dc:title>Slajd 1</dc:title>
</cp:coreProperties>
</file>